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4F1-3CBD-4FEB-8C86-0CCE5741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BEA-DA48-4B36-B065-D53AF22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59D-7898-4B9F-9449-4A5DCE15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92D-6F78-433C-86E8-1206BDCC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183-6D40-4528-ACCE-036749F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614-A00B-4015-B335-3F69DE2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68C-D653-48F1-9BD9-D5B41062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DC5-3418-4A4E-85BA-6E9B3EC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B69-0E6D-48CC-A3B8-E4ADBD9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9DB-5CD4-4EF7-BC4F-AA2A6CD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25A-88CA-4642-95C6-6FF7AA7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1E2-CA78-410C-936C-5C9E81A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2E17-913C-4397-A7C8-E0BA546E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621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3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4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3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4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5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51814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81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19720" y="3452760"/>
          <a:ext cx="4724280" cy="340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52760"/>
                    <a:ext cx="47242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7150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962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200040" y="373356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229240" y="3048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0:50:51Z</dcterms:created>
  <dc:creator>USD376</dc:creator>
  <dc:description/>
  <dc:language>en-US</dc:language>
  <cp:lastModifiedBy>USD376</cp:lastModifiedBy>
  <dcterms:modified xsi:type="dcterms:W3CDTF">2012-03-08T20:57:16Z</dcterms:modified>
  <cp:revision>2</cp:revision>
  <dc:subject/>
  <dc:title>Slide 1</dc:title>
</cp:coreProperties>
</file>